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91E-18A2-41C8-882C-4EA8C30D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BB4-A416-4493-AD7B-251EF9A8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5BB-5D8D-4018-930D-FF550533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84F7-E2B4-41EE-95F7-B5429F12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68C-4DD3-4946-8A93-60359A7E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2DE8-D0CE-4AC0-953B-05846F94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72A-6037-43DB-9265-582106E2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0B0-44DE-4900-8F6B-7322EF77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1D5-64C2-45AC-9F04-42D0513F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965-6D17-488C-BF46-7F62BBCE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91DB-B480-4344-9239-30C68D14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5D92-6824-4862-BAC4-8BC6DF0C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FFD5-3D65-4CD6-AC60-67AE4B25F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who’s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300" spc="-1" strike="noStrike">
                <a:solidFill>
                  <a:srgbClr val="000000"/>
                </a:solidFill>
                <a:latin typeface="Arial"/>
              </a:rPr>
              <a:t>he’ll</a:t>
            </a:r>
            <a:endParaRPr b="0" lang="en-US" sz="2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eren’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he’s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they’ll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aren’t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isn’t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can’t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she’s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hasn’t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she’s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there’s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couldn’t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Arial"/>
              </a:rPr>
              <a:t>wouldn’t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didn’t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Arial"/>
              </a:rPr>
              <a:t>shouldn’t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where’s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3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2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you’re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500" spc="-1" strike="noStrike">
                <a:solidFill>
                  <a:srgbClr val="000000"/>
                </a:solidFill>
                <a:latin typeface="Arial"/>
              </a:rPr>
              <a:t>either</a:t>
            </a:r>
            <a:endParaRPr b="0" lang="en-US" sz="2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certainly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4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20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hadn’t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0" spc="-1" strike="noStrike">
                <a:solidFill>
                  <a:srgbClr val="000000"/>
                </a:solidFill>
                <a:latin typeface="Arial"/>
              </a:rPr>
              <a:t>worst</a:t>
            </a:r>
            <a:endParaRPr b="0" lang="en-US" sz="2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500" spc="-1" strike="noStrike">
                <a:solidFill>
                  <a:srgbClr val="000000"/>
                </a:solidFill>
                <a:latin typeface="Arial"/>
              </a:rPr>
              <a:t>father</a:t>
            </a:r>
            <a:endParaRPr b="0" lang="en-US" sz="2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2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opene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every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Arial"/>
              </a:rPr>
              <a:t>charm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300" spc="-1" strike="noStrike">
                <a:solidFill>
                  <a:srgbClr val="000000"/>
                </a:solidFill>
                <a:latin typeface="Arial"/>
              </a:rPr>
              <a:t>it’s</a:t>
            </a:r>
            <a:endParaRPr b="0" lang="en-US" sz="3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800" spc="-1" strike="noStrike">
                <a:solidFill>
                  <a:srgbClr val="000000"/>
                </a:solidFill>
                <a:latin typeface="Arial"/>
              </a:rPr>
              <a:t>wasn’t</a:t>
            </a:r>
            <a:endParaRPr b="0" lang="en-US" sz="2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we’ll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400" spc="-1" strike="noStrike">
                <a:solidFill>
                  <a:srgbClr val="000000"/>
                </a:solidFill>
                <a:latin typeface="Arial"/>
              </a:rPr>
              <a:t>I’ll</a:t>
            </a:r>
            <a:endParaRPr b="0" lang="en-US" sz="3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600" spc="-1" strike="noStrike">
                <a:solidFill>
                  <a:srgbClr val="000000"/>
                </a:solidFill>
                <a:latin typeface="Arial"/>
              </a:rPr>
              <a:t>I’m</a:t>
            </a:r>
            <a:endParaRPr b="0" lang="en-US" sz="3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she’ll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4:36:51Z</dcterms:created>
  <dc:creator> </dc:creator>
  <dc:description/>
  <dc:language>en-US</dc:language>
  <cp:lastModifiedBy>Laura McDow</cp:lastModifiedBy>
  <dcterms:modified xsi:type="dcterms:W3CDTF">2010-09-21T15:16:16Z</dcterms:modified>
  <cp:revision>25</cp:revision>
  <dc:subject/>
  <dc:title>king</dc:title>
</cp:coreProperties>
</file>